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167-344F-4913-908D-9EFB1B2A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5D1-D9D5-4311-BFF9-7B8C27FB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FAD-C1CC-4953-ABA7-8F88FF5E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7AD-6D6E-4AB9-9A26-5C4128D7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183-DEA7-4E36-940D-520984FB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18D-2572-40CC-A7CC-47ED6D61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244-B377-4208-9FD1-2677F3F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C3C-FDD4-41BB-957D-5E225BB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066-3E85-4D64-A9B5-85633DB2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C19-5B96-4048-92B8-1538302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C64-8F1B-44D6-97CD-D756DBC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ABE-7CF5-4961-93BF-9A95392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9CA6-070E-4175-A1AA-0824BF103F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there be enough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london20121"/>
          <p:cNvPicPr/>
          <p:nvPr/>
        </p:nvPicPr>
        <p:blipFill>
          <a:blip r:embed="rId1"/>
          <a:stretch/>
        </p:blipFill>
        <p:spPr>
          <a:xfrm>
            <a:off x="1403280" y="-316080"/>
            <a:ext cx="57168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851280" y="2349360"/>
            <a:ext cx="2016000" cy="215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92360" y="2349360"/>
            <a:ext cx="2016000" cy="215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2700360" y="2349360"/>
            <a:ext cx="2303280" cy="215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059280" y="19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 rot="5400000">
            <a:off x="2254320" y="286560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 rot="16200000">
            <a:off x="2200320" y="32079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708000" y="24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2843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5940360" y="549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= 90mx70m=6300m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036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2=4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012000" y="1989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300m2x4=25200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 flipH="1">
            <a:off x="4643280" y="1268280"/>
            <a:ext cx="115272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333360"/>
            <a:ext cx="30974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940360" y="3933720"/>
            <a:ext cx="302436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6156360" y="4005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ameter= 70m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156360" y="443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pi = 109.95574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084720" y="4941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pix2=219.91148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6084720" y="5516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19.9114858x4m=879.6459432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0"/>
          <p:cNvSpPr/>
          <p:nvPr/>
        </p:nvSpPr>
        <p:spPr>
          <a:xfrm flipH="1" flipV="1">
            <a:off x="5508720" y="371592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1"/>
          <p:cNvSpPr/>
          <p:nvPr/>
        </p:nvSpPr>
        <p:spPr>
          <a:xfrm flipH="1" flipV="1">
            <a:off x="2411280" y="4076640"/>
            <a:ext cx="360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539640" y="4869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200 + 879= 26079 = max  amount of people in sta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95280" y="4581360"/>
            <a:ext cx="2448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395280" y="260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Y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Members_of_Team_USA_during_2008_Summer_Olympics_opening_ceremony"/>
          <p:cNvPicPr/>
          <p:nvPr/>
        </p:nvPicPr>
        <p:blipFill>
          <a:blip r:embed="rId1"/>
          <a:stretch/>
        </p:blipFill>
        <p:spPr>
          <a:xfrm>
            <a:off x="0" y="0"/>
            <a:ext cx="10282320" cy="6840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0000"/>
                </a:solidFill>
                <a:latin typeface="Arial"/>
              </a:rPr>
              <a:t>EVERYONE WILL FI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smiley-face"/>
          <p:cNvPicPr/>
          <p:nvPr/>
        </p:nvPicPr>
        <p:blipFill>
          <a:blip r:embed="rId2"/>
          <a:stretch/>
        </p:blipFill>
        <p:spPr>
          <a:xfrm>
            <a:off x="0" y="0"/>
            <a:ext cx="1630440" cy="163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smiley-face"/>
          <p:cNvPicPr/>
          <p:nvPr/>
        </p:nvPicPr>
        <p:blipFill>
          <a:blip r:embed="rId3"/>
          <a:stretch/>
        </p:blipFill>
        <p:spPr>
          <a:xfrm>
            <a:off x="7513560" y="0"/>
            <a:ext cx="1630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40:52Z</dcterms:created>
  <dc:creator>livingstona</dc:creator>
  <dc:description/>
  <dc:language>en-US</dc:language>
  <cp:lastModifiedBy> </cp:lastModifiedBy>
  <dcterms:modified xsi:type="dcterms:W3CDTF">2010-06-12T11:54:26Z</dcterms:modified>
  <cp:revision>2</cp:revision>
  <dc:subject/>
  <dc:title> </dc:title>
</cp:coreProperties>
</file>